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9370-4DC6-45B2-8B10-8F42261BE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New Yor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582912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930920"/>
            <a:ext cx="582912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8D73-EBE4-4126-82DB-8740726FB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New Yor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84436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20440" y="990360"/>
            <a:ext cx="284436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930920"/>
            <a:ext cx="284436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20440" y="4930920"/>
            <a:ext cx="284436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D279-0152-4E06-B564-0C4F9B91D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New Yor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187668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04520" y="990360"/>
            <a:ext cx="187668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75160" y="990360"/>
            <a:ext cx="187668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930920"/>
            <a:ext cx="187668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04520" y="4930920"/>
            <a:ext cx="187668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475160" y="4930920"/>
            <a:ext cx="187668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5302-532E-4D19-9633-6173CC5297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New Yor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5A56-E895-4192-9C59-B6699A1E69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New Yor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1CD3-5957-4B72-8090-6FEA901D5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New Yor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844360" cy="75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20440" y="990360"/>
            <a:ext cx="2844360" cy="75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F88C-CB42-47B5-ACFC-15A039072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New Y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E2C8-1948-4095-BD9C-B21C023A7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BD40-B5A1-4051-A1E2-E3AB834B6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New Yor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84436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20440" y="990360"/>
            <a:ext cx="2844360" cy="75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930920"/>
            <a:ext cx="284436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78C2-4207-4B9B-9A98-CA4706AB6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New Yor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844360" cy="75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20440" y="990360"/>
            <a:ext cx="284436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20440" y="4930920"/>
            <a:ext cx="284436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69BC-4D41-48F9-BF33-99FE2CD31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00"/>
              </a:solidFill>
              <a:latin typeface="New Yor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84436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20440" y="990360"/>
            <a:ext cx="284436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930920"/>
            <a:ext cx="5829120" cy="35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B294-2931-491C-98CC-577FFBD9E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99036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 York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  <a:p>
            <a:pPr lvl="1" marL="765000" indent="-285480">
              <a:spcBef>
                <a:spcPts val="601"/>
              </a:spcBef>
              <a:buClr>
                <a:srgbClr val="000000"/>
              </a:buClr>
              <a:buFont typeface="New Yor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 York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  <a:p>
            <a:pPr lvl="2" marL="1184400" indent="-228600">
              <a:spcBef>
                <a:spcPts val="601"/>
              </a:spcBef>
              <a:buClr>
                <a:srgbClr val="000000"/>
              </a:buClr>
              <a:buFont typeface="New Yor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 York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  <a:p>
            <a:pPr lvl="3" marL="1603440" indent="-228600">
              <a:spcBef>
                <a:spcPts val="601"/>
              </a:spcBef>
              <a:buClr>
                <a:srgbClr val="000000"/>
              </a:buClr>
              <a:buFont typeface="New Yor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 York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New Yor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 York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New Yor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 York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New Yor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 York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5428800" y="8813520"/>
            <a:ext cx="142884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30EF-A91D-4EF0-BE4B-2C92642217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52520" y="304920"/>
            <a:ext cx="42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New York"/>
              </a:rPr>
              <a:t>INGEGNERIA DELLE MATERIE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New York"/>
              </a:rPr>
              <a:t>Click to edit the title text format</a:t>
            </a:r>
            <a:endParaRPr b="1" lang="en-US" sz="1800" spc="-1" strike="noStrike">
              <a:solidFill>
                <a:srgbClr val="00ff00"/>
              </a:solidFill>
              <a:latin typeface="New Yor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533520" y="988560"/>
            <a:ext cx="5829120" cy="80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New York"/>
              </a:rPr>
              <a:t>COMMINUZIONE</a:t>
            </a:r>
            <a:endParaRPr b="1" lang="en-US" sz="2000" spc="-1" strike="noStrike">
              <a:solidFill>
                <a:srgbClr val="000000"/>
              </a:solidFill>
              <a:latin typeface="New York"/>
            </a:endParaRPr>
          </a:p>
          <a:p>
            <a:pPr marL="185760"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 York"/>
              </a:rPr>
              <a:t>COMMINUZIONE  TRADIZIONAL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224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New York"/>
              </a:rPr>
              <a:t>mineral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224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New York"/>
              </a:rPr>
              <a:t>rocc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224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New York"/>
              </a:rPr>
              <a:t>cereal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224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New York"/>
              </a:rPr>
              <a:t>materiali derivanti da trattamenti termic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24"/>
              </a:spcBef>
              <a:buClr>
                <a:srgbClr val="00008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New York"/>
              </a:rPr>
              <a:t>lateriz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24"/>
              </a:spcBef>
              <a:buClr>
                <a:srgbClr val="00008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New York"/>
              </a:rPr>
              <a:t>terragli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24"/>
              </a:spcBef>
              <a:buClr>
                <a:srgbClr val="00008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New York"/>
              </a:rPr>
              <a:t>ceramic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85760"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 York"/>
              </a:rPr>
              <a:t>COMMINUZIONE NON TRADIZIONAL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224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New York"/>
              </a:rPr>
              <a:t>polver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224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New York"/>
              </a:rPr>
              <a:t>fibr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224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New York"/>
              </a:rPr>
              <a:t>fogl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224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New York"/>
              </a:rPr>
              <a:t>prodott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224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New York"/>
              </a:rPr>
              <a:t>plastich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224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New York"/>
              </a:rPr>
              <a:t>metall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224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New York"/>
              </a:rPr>
              <a:t>legh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224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New York"/>
              </a:rPr>
              <a:t>materiali composit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24"/>
              </a:spcBef>
              <a:buClr>
                <a:srgbClr val="00008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New York"/>
              </a:rPr>
              <a:t>sandwich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24"/>
              </a:spcBef>
              <a:buClr>
                <a:srgbClr val="00008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New York"/>
              </a:rPr>
              <a:t>assemblat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24"/>
              </a:spcBef>
              <a:buClr>
                <a:srgbClr val="00008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New York"/>
              </a:rPr>
              <a:t>avvitat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24"/>
              </a:spcBef>
              <a:buClr>
                <a:srgbClr val="00008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New York"/>
              </a:rPr>
              <a:t>saldat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24"/>
              </a:spcBef>
              <a:buClr>
                <a:srgbClr val="00008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New York"/>
              </a:rPr>
              <a:t>ricoprent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24"/>
              </a:spcBef>
              <a:buClr>
                <a:srgbClr val="00008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New York"/>
              </a:rPr>
              <a:t>affogat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DADD-39A6-4AA7-BD2D-57540935E1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988560"/>
            <a:ext cx="5829120" cy="80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New York"/>
              </a:rPr>
              <a:t>COMMINUZIONE TRADIZIONAL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8576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New York"/>
              </a:rPr>
              <a:t>TECNOLOGIE DI FRANTUMAZIONE (crushing)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1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per shock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400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meccanico (frantoi o mulini ad urto)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pilon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bumper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martell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martelli, a contrasto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disintegrator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centrifugh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rotazione, a risalt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400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elettrico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frantoi a scossa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1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per compression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400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frantoi a mascell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frantoi Dodg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frantoi Blak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frantoi a ginocchiera semplic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frantoi a ginocchiera doppia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400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frantoi rotativ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frantoi ad albero sospeso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frantoi a cono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frantoi ad albero sostenuto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400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frantoi a rull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doppi rulli lisc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doppi rulli scanalat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2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singolo rullo, a contrasto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536D-709B-45D7-A93D-7779B7D30F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3520" y="988560"/>
            <a:ext cx="5829120" cy="80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New York"/>
              </a:rPr>
              <a:t>COMMINUZIONE TRADIZIONAL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8576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New York"/>
              </a:rPr>
              <a:t>TECNOLOGIE DI MACINAZIONE (grinding)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1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per compression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400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applicata progressivament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mole vertical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cilindr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d anell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pendolar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galets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rotolamento di bigli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57280" indent="-181080">
              <a:spcBef>
                <a:spcPts val="400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applicata bruscament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pilon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cascata (autogeni)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getto (jet mill)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1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per taglio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mole orizzontal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disch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1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per compressione e taglio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sfer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barr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2" marL="976320" indent="-228600"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New York"/>
              </a:rPr>
              <a:t>mulini a ciottol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DBDE-1652-4B55-A51E-43A2D389BB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520" y="988560"/>
            <a:ext cx="5829120" cy="80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8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New York"/>
              </a:rPr>
              <a:t>COMMINUZIONE NON TRADIZIONAL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7820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New York"/>
              </a:rPr>
              <a:t>TECNOLOGIE DI TAGLIO (cutting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78200" indent="-178200">
              <a:spcBef>
                <a:spcPts val="1125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New York"/>
              </a:rPr>
              <a:t>granulatore (granulator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78200" indent="-178200">
              <a:spcBef>
                <a:spcPts val="1125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New York"/>
              </a:rPr>
              <a:t>trituratore (sredder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7820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New York"/>
              </a:rPr>
              <a:t>TECNOLOGIE DI ROTTURA (breakage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78200" indent="-178200">
              <a:spcBef>
                <a:spcPts val="1125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New York"/>
              </a:rPr>
              <a:t>per materiali fragili e morbidi (durezza Mhos &lt; 3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34960" indent="-173520">
              <a:spcBef>
                <a:spcPts val="451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0"/>
                </a:solidFill>
                <a:latin typeface="New York"/>
              </a:rPr>
              <a:t>mulino a martelli (hammer mill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34960" indent="-173520">
              <a:spcBef>
                <a:spcPts val="451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0"/>
                </a:solidFill>
                <a:latin typeface="New York"/>
              </a:rPr>
              <a:t>mulino a impatto meccanico (impact mill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2" marL="937080" indent="-219240"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New York"/>
              </a:rPr>
              <a:t>a gabbie, a piatti lisci, scanalati, a rilievi o bottoni (stud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2" marL="937080" indent="-219240"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New York"/>
              </a:rPr>
              <a:t>a gabbie rotanti, battenti, oscillanti (rotating,beater, swing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2" marL="937080" indent="-219240"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New York"/>
              </a:rPr>
              <a:t>ad 1 o 2 piatti rotanti (rotating disc or plate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2" marL="937080" indent="-219240"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New York"/>
              </a:rPr>
              <a:t>con o senza grigli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34960" indent="-173520">
              <a:spcBef>
                <a:spcPts val="451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0"/>
                </a:solidFill>
                <a:latin typeface="New York"/>
              </a:rPr>
              <a:t>mulino a coltelli (knife mill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34960" indent="-173520">
              <a:spcBef>
                <a:spcPts val="451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0"/>
                </a:solidFill>
                <a:latin typeface="New York"/>
              </a:rPr>
              <a:t>mulino a dischi tosatori (shearing disck mill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34960" indent="-173520">
              <a:spcBef>
                <a:spcPts val="451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0"/>
                </a:solidFill>
                <a:latin typeface="New York"/>
              </a:rPr>
              <a:t>mulino a turbina (turbo mill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34960" indent="-173520">
              <a:spcBef>
                <a:spcPts val="451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0"/>
                </a:solidFill>
                <a:latin typeface="New York"/>
              </a:rPr>
              <a:t>mulino classificatore (classifier mill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34960" indent="-173520">
              <a:spcBef>
                <a:spcPts val="451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0"/>
                </a:solidFill>
                <a:latin typeface="New York"/>
              </a:rPr>
              <a:t>mulino a getti contrapposti (opposed jet mill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78200" indent="-178200">
              <a:spcBef>
                <a:spcPts val="1125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New York"/>
              </a:rPr>
              <a:t>per materiali resistenti e duri (durezza Mhos 3-10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34960" indent="-173520">
              <a:spcBef>
                <a:spcPts val="451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0"/>
                </a:solidFill>
                <a:latin typeface="New York"/>
              </a:rPr>
              <a:t>mulino a getto a spirale (spiral jet mill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34960" indent="-173520">
              <a:spcBef>
                <a:spcPts val="451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0"/>
                </a:solidFill>
                <a:latin typeface="New York"/>
              </a:rPr>
              <a:t>mulino a rulli ad alta pressione (roller mill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34960" indent="-173520">
              <a:spcBef>
                <a:spcPts val="451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0"/>
                </a:solidFill>
                <a:latin typeface="New York"/>
              </a:rPr>
              <a:t>mulino a sfere (ball mill)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AFEE-ADE9-4CBF-9FB2-6C85115425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988560"/>
            <a:ext cx="5829120" cy="80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New York"/>
              </a:rPr>
              <a:t>COMMINUZIONE NON TRADIZIONALE</a:t>
            </a:r>
            <a:endParaRPr b="1" lang="en-US" sz="2000" spc="-1" strike="noStrike">
              <a:solidFill>
                <a:srgbClr val="000000"/>
              </a:solidFill>
              <a:latin typeface="New York"/>
            </a:endParaRPr>
          </a:p>
          <a:p>
            <a:pPr marL="1857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New York"/>
              </a:rPr>
              <a:t>TECNOLOGIE AUSILIARI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New York"/>
              </a:rPr>
              <a:t>classificazione ad aria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New York"/>
              </a:rPr>
              <a:t>classificatore ultrafin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New York"/>
              </a:rPr>
              <a:t>classificatore interno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New York"/>
              </a:rPr>
              <a:t>classificatore zigzag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New York"/>
              </a:rPr>
              <a:t>vagliatura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New York"/>
              </a:rPr>
              <a:t>separazione in letto fluido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New York"/>
              </a:rPr>
              <a:t>miscelazion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New York"/>
              </a:rPr>
              <a:t>essicazion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New York"/>
              </a:rPr>
              <a:t>misura delle caratteristich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74560" indent="-180720">
              <a:spcBef>
                <a:spcPts val="451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0"/>
                </a:solidFill>
                <a:latin typeface="New York"/>
              </a:rPr>
              <a:t>dimensioni delle polver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lvl="1" marL="574560" indent="-180720">
              <a:spcBef>
                <a:spcPts val="451"/>
              </a:spcBef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80"/>
                </a:solidFill>
                <a:latin typeface="New York"/>
              </a:rPr>
              <a:t>proprietà delle polver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New York"/>
              </a:rPr>
              <a:t>depolverizzazione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New York"/>
              </a:rPr>
              <a:t>confezionamento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848A-49AC-409B-98BA-36B5EC912E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988560"/>
            <a:ext cx="5829120" cy="80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New York"/>
              </a:rPr>
              <a:t>COMMINUZIONE NON TRADIZIONALE</a:t>
            </a:r>
            <a:endParaRPr b="1" lang="en-US" sz="2000" spc="-1" strike="noStrike">
              <a:solidFill>
                <a:srgbClr val="000000"/>
              </a:solidFill>
              <a:latin typeface="New York"/>
            </a:endParaRPr>
          </a:p>
          <a:p>
            <a:pPr marL="1857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New York"/>
              </a:rPr>
              <a:t>CARATTERISTICHE MECCANICHE DEI MATERIAL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morbidi, fragili, cristallin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mediamente duri, abrasiv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duri, fortemente abrasiv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elastici, resilienti, tagliabil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fibros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esplosivi (se in polvere)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New York"/>
              </a:rPr>
              <a:t>CARATTERISTICHE GEOMETRICHE DEI MATERIAL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in pezzi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       +5 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mm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granulati grossolani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    -5+1 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   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mm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medio fini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    -1+0,5 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mm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fini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-500+250 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finissimi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-250+50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 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superfini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  -50+10 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5760" indent="-185760">
              <a:spcBef>
                <a:spcPts val="4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ultrafini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  -10+2 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CB7A-7ECC-4C33-93C0-4F0F75428C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5829120" cy="83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New York"/>
              </a:rPr>
              <a:t>COMMINUZIONE NON TRADIZIONALE</a:t>
            </a:r>
            <a:endParaRPr b="1" lang="en-US" sz="2000" spc="-1" strike="noStrike">
              <a:solidFill>
                <a:srgbClr val="000000"/>
              </a:solidFill>
              <a:latin typeface="New York"/>
            </a:endParaRPr>
          </a:p>
          <a:p>
            <a:pPr marL="18360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New York"/>
              </a:rPr>
              <a:t>SETTORI INDUSTRIALI PER NUOVI MATERIALI</a:t>
            </a:r>
            <a:endParaRPr b="1" lang="en-US" sz="1800" spc="-1" strike="noStrike">
              <a:solidFill>
                <a:srgbClr val="000000"/>
              </a:solidFill>
              <a:latin typeface="New York"/>
            </a:endParaRPr>
          </a:p>
          <a:p>
            <a:pPr marL="183600" indent="-183600">
              <a:spcBef>
                <a:spcPts val="2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industria chimica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3600" indent="-183600">
              <a:spcBef>
                <a:spcPts val="2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industria farmaceutica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68800" indent="-178560"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trattamento di polver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68800" indent="-178560"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produzione di materiali in fogli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3600" indent="-183600">
              <a:spcBef>
                <a:spcPts val="2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industria delle miscelazion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3600" indent="-183600">
              <a:spcBef>
                <a:spcPts val="2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industria delle pitture, delle vernici e delle polver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68800" indent="-178560"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pigmenti e pulverulent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68800" indent="-178560"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ricorimento di polver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68800" indent="-178560"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inchiostri, toner, polveri per la copiatura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3600" indent="-183600">
              <a:spcBef>
                <a:spcPts val="2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industria dei cosmetic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3600" indent="-183600">
              <a:spcBef>
                <a:spcPts val="2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industria dei minerali e delle rocc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68800" indent="-178560"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minerali in polver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68800" indent="-178560"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materie prime per le ceramich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3600" indent="-183600">
              <a:spcBef>
                <a:spcPts val="2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industria dei refrattar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3600" indent="-183600">
              <a:spcBef>
                <a:spcPts val="2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industria degli abrasiv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3600" indent="-183600">
              <a:spcBef>
                <a:spcPts val="2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industria delle terre rare e metallurgia delle polver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3600" indent="-183600">
              <a:spcBef>
                <a:spcPts val="2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indutria alimentar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3600" indent="-183600">
              <a:spcBef>
                <a:spcPts val="2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industria veterinaria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3600" indent="-183600">
              <a:spcBef>
                <a:spcPts val="2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industria delle spezi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3600" indent="-183600">
              <a:spcBef>
                <a:spcPts val="2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industria delle farin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3600" indent="-183600">
              <a:spcBef>
                <a:spcPts val="2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industria delle confezion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3600" indent="-183600">
              <a:spcBef>
                <a:spcPts val="2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industria del foglio sottile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marL="183600" indent="-183600">
              <a:spcBef>
                <a:spcPts val="2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New York"/>
              </a:rPr>
              <a:t>riciclaggio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68800" indent="-178560"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cascam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68800" indent="-178560"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scart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68800" indent="-178560"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rottam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68800" indent="-178560"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ritagl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68800" indent="-178560"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framment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  <a:p>
            <a:pPr lvl="1" marL="568800" indent="-178560">
              <a:buClr>
                <a:srgbClr val="000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80"/>
                </a:solidFill>
                <a:latin typeface="New York"/>
              </a:rPr>
              <a:t>rifiuti</a:t>
            </a:r>
            <a:endParaRPr b="1" lang="en-US" sz="1600" spc="-1" strike="noStrike">
              <a:solidFill>
                <a:srgbClr val="000000"/>
              </a:solidFill>
              <a:latin typeface="New Yor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9365-5FE4-4289-89D9-159880DE20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6:04:00Z</dcterms:created>
  <dc:creator>Floriana La Marca</dc:creator>
  <dc:description/>
  <dc:language>en-US</dc:language>
  <cp:lastModifiedBy>aa</cp:lastModifiedBy>
  <cp:lastPrinted>2001-11-15T07:14:53Z</cp:lastPrinted>
  <dcterms:modified xsi:type="dcterms:W3CDTF">2007-05-13T09:56:23Z</dcterms:modified>
  <cp:revision>511</cp:revision>
  <dc:subject/>
  <dc:title>Corso di Trattamento dei solidi</dc:title>
</cp:coreProperties>
</file>